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0573-5F57-4901-BF65-6A1DAB403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9709-CCDE-4BEF-BDB2-4DFBE54181FD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nningham Smith and Pearsall Chapter 16, p 4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AD65-86BE-46AF-884B-BB6031421FCD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A4CB-B70B-432A-8354-64960BFB301B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B22F-7236-43E2-B6AF-FE5FFE404AB5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4297-BBF1-4AFE-B897-FD161458C5F1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E3CF-1450-4DB6-8C71-C297CDEDF4A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08AB-FC6D-44BE-AC85-2FF33BADD68F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1C4E-05F4-4BB3-BF7D-9FEC323F321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technical document a paragraph should have no more than 4-6 typed lines (no more than 50 words.  If you exceed this, find a suitable place to stop and start a new one (Gerson 58)  Long paragraphs impede the reader’s ability to grasp and retai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repetitive expressions ( red in colou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long words – use the si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you cannot always avoid using multi-syllable words, be aware that they can limit compreh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% of Americans graduate from college. To write for college level would therefore disadvantage 67%.  Many businesses stipulate writing for 6 th to 8 th g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Gerson Chapter 3 to locate some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5BEE-9BB0-40BF-BD45-7C31F7E0BAE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topic is spatially organised you lay out and describe the components as they are seen (left to right top to bottom, inside ou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e “Moving from the general to the specific “ by reference to the introduction of mech. Des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8600-2934-4F3D-94EA-2FBB1DBC4C48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six main features in designing the 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s = Title, intro., dev./discussion,  conc.  What goes into each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son 336) : ways of concluding, depending on what was your purpose initially:  Discuss uses, guarantees, give testimony, compare/contr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AFC7-44AB-455A-AD1E-BC810D914307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CFD6-FD6F-44F2-A540-3FA14BA2BC44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511A-A4D5-47F4-8F0A-35E4BA26E9F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A86A-0837-49B3-9DFF-4D57CD44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5D5F-5ED0-4304-8C83-58423929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2500-612D-45F8-81B2-579A6B34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0CE1-E79D-4CAD-B417-606EB3A0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862C-CF05-4868-8295-4A93EF6A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EB73-A94F-46E3-B908-4866F3FF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AE78-680F-4897-83C2-2E9E08DB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EFCB-BF2B-45F6-85FA-E0275F17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9772-F63C-4598-BB85-9B5B4484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C4F4-F971-4635-86E6-8FB578C5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D919-714D-4EFD-AF43-D4541586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FE7E-83EB-47C8-A760-3A5A61A2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F98B-FA3A-4B01-A122-0F4C456B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67F9-7AB2-40E6-BF5A-066E8C40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7944-55EF-4ED5-8DEC-50D8AB08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4066-9F46-47FB-8344-52D72E3A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200F-816B-4FA5-ACA5-AC8B3E43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1FB8-C51E-4E33-8E85-851E64EA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84B-0B22-43E8-ACE9-5B9ACDC8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00EF-AF85-4B02-B5DB-17DDF753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7C01-9439-4B95-B13D-18685A1D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7B38-32FF-43D6-95C0-A825E856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10CD-04C2-4E45-B805-1C9543A5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1EA-2CCF-4193-8CCB-02340DAB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AAB4-0EF7-4F83-9EC0-1EC1CB81A7B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E6FF-BB85-4CAD-81CD-30C4A752881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20160" y="996120"/>
            <a:ext cx="7303680" cy="113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Baskerville Old Face"/>
              </a:rPr>
              <a:t>TECHNICAL &amp; SCIENTIFIC</a:t>
            </a:r>
            <a:br>
              <a:rPr sz="2800"/>
            </a:br>
            <a:r>
              <a:rPr b="0" i="1" lang="en-US" sz="2800" spc="-1" strike="noStrike">
                <a:solidFill>
                  <a:srgbClr val="003366"/>
                </a:solidFill>
                <a:latin typeface="Baskerville Old Face"/>
              </a:rPr>
              <a:t>WRITING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Baskerville Old Face"/>
              </a:rPr>
              <a:t>SKILL NO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Baskerville Old Face"/>
              </a:rPr>
              <a:t>DESCRI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43000" y="14479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Baskerville Old Face"/>
              </a:rPr>
              <a:t>Pictori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Pictorials support the written detai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Ensure clarity of perce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NB.  These may be copied or personally genera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Some cautions re Pictorial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do the research to find most appropriate graph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copy and acknowledge sour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select aspects careful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choose the most descriptive ang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us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Baskerville Old Face"/>
              </a:rPr>
              <a:t>only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 wh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the reader needs the hel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the purpose demands th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when the information i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Baskerville Old Face"/>
              </a:rPr>
              <a:t>best 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conveyed visual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00280" y="1059120"/>
            <a:ext cx="7847640" cy="53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Baskerville Old Face"/>
              </a:rPr>
              <a:t>THE USE OF VISUAL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be effective, visuals mu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Baskerville Old Face"/>
              </a:rPr>
              <a:t>carry important information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Baskerville Old Face"/>
              </a:rPr>
              <a:t>have the information made identifiable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Baskerville Old Face"/>
              </a:rPr>
              <a:t>be separated from the text with adequate white space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Baskerville Old Face"/>
              </a:rPr>
              <a:t>have a border that will define visual from text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Baskerville Old Face"/>
              </a:rPr>
              <a:t>be integrated into the text by reference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04960" y="91116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Baskerville Old Face"/>
              </a:rPr>
              <a:t>THE USE OF VISUALS  (continued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ear as close as possible to the text which it illustrates (as far as possible, on the same pag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directly relevant to the tex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captioned (have its title underneath.  Only Tables carry the title above) and labeled ( all parts named and identified by arrows or a k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labeled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figur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unless the information is given in a t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50800" y="367920"/>
            <a:ext cx="8042400" cy="129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Baskerville Old Face"/>
              </a:rPr>
              <a:t>SPECIFIC TASK: Describing a Man-made </a:t>
            </a:r>
            <a:r>
              <a:rPr b="0" i="1" lang="en-US" sz="2400" spc="-1" strike="noStrike">
                <a:solidFill>
                  <a:srgbClr val="006666"/>
                </a:solidFill>
                <a:latin typeface="Baskerville Old Face"/>
              </a:rPr>
              <a:t>	</a:t>
            </a:r>
            <a:r>
              <a:rPr b="0" i="1" lang="en-US" sz="2400" spc="-1" strike="noStrike">
                <a:solidFill>
                  <a:srgbClr val="006666"/>
                </a:solidFill>
                <a:latin typeface="Baskerville Old Face"/>
              </a:rPr>
              <a:t>	</a:t>
            </a:r>
            <a:r>
              <a:rPr b="0" i="1" lang="en-US" sz="2400" spc="-1" strike="noStrike">
                <a:solidFill>
                  <a:srgbClr val="006666"/>
                </a:solidFill>
                <a:latin typeface="Baskerville Old Face"/>
              </a:rPr>
              <a:t>	</a:t>
            </a:r>
            <a:r>
              <a:rPr b="0" i="1" lang="en-US" sz="2400" spc="-1" strike="noStrike">
                <a:solidFill>
                  <a:srgbClr val="006666"/>
                </a:solidFill>
                <a:latin typeface="Baskerville Old Face"/>
              </a:rPr>
              <a:t>	</a:t>
            </a:r>
            <a:r>
              <a:rPr b="0" i="1" lang="en-US" sz="2400" spc="-1" strike="noStrike">
                <a:solidFill>
                  <a:srgbClr val="006666"/>
                </a:solidFill>
                <a:latin typeface="Baskerville Old Face"/>
              </a:rPr>
              <a:t>	</a:t>
            </a:r>
            <a:r>
              <a:rPr b="0" i="1" lang="en-US" sz="2400" spc="-1" strike="noStrike">
                <a:solidFill>
                  <a:srgbClr val="006666"/>
                </a:solidFill>
                <a:latin typeface="Baskerville Old Face"/>
              </a:rPr>
              <a:t>Mechanism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36680" y="2738160"/>
            <a:ext cx="662472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Baskerville Old Face"/>
              </a:rPr>
              <a:t>QUALITIES expec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Objectiv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Concise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Prec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143000"/>
            <a:ext cx="7696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Baskerville Old Face"/>
              </a:rPr>
              <a:t>Achieving Objectivit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Denotative vocabula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Precise langu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Statistical data (specific measurements etc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Neutral t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90720" y="106632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Baskerville Old Face"/>
              </a:rPr>
              <a:t>Achieving Concisenes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Baskerville Old Face"/>
              </a:rPr>
              <a:t>Limit length of sentences, paragraph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Baskerville Old Face"/>
              </a:rPr>
              <a:t>Avoid repetitive expressions and alternati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Baskerville Old Face"/>
              </a:rPr>
              <a:t>Precision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Be informative – give detail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Use measure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Avoid opin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65400" y="2361960"/>
            <a:ext cx="70516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Baskerville Old Face"/>
              </a:rPr>
              <a:t>ORGANISING PRINCIP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Spatial relationshi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Logical mov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General to the specif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Baskerville Old Face"/>
              </a:rPr>
              <a:t>DESIGNING THE DOCU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In designing six main areas will be considere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Document se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Page numbe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Font size and sty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Line spac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Paragrap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highligh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43000" y="1066680"/>
            <a:ext cx="6858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Baskerville Old Face"/>
              </a:rPr>
              <a:t>Document Se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Four main parts to the documen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Introd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Bo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Conclu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Baskerville Old Face"/>
              </a:rPr>
              <a:t>Highlighting Strategies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Indent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Upper case;   bold;   italics;  under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Headings and sub-head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Lists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- bullet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- number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Baskerville Old Face"/>
              </a:rPr>
              <a:t>VISUALI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The main purpose ---  to support the written detai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Four main ways of visualizing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Use descriptive and familiar words to establish size, shape, texture, appea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Use geometric shapes for general &amp; specific appearance (Pearsall 437 f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Use analogies (similar elements from other things and experienc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askerville Old Face"/>
              </a:rPr>
              <a:t>Use pictorials (graph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4:46:29Z</dcterms:created>
  <dc:creator>Joyce</dc:creator>
  <dc:description/>
  <dc:language>en-US</dc:language>
  <cp:lastModifiedBy>jstewart</cp:lastModifiedBy>
  <dcterms:modified xsi:type="dcterms:W3CDTF">2010-09-21T19:16:28Z</dcterms:modified>
  <cp:revision>12</cp:revision>
  <dc:subject/>
  <dc:title>TECHNICAL &amp; SCIENTIFIC WRITING</dc:title>
</cp:coreProperties>
</file>